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17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laser.wav" ContentType="audio/x-wav"/>
  <Override PartName="/ppt/media/image4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image1.jpeg" ContentType="image/jpe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4E48-D20A-4588-B0D1-8938CED6B9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6D3-83D8-469C-BAF7-19A53559B4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E65-9FB5-4F5B-B0FF-75A6DD79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C79-CFD8-4BF6-9152-9CE9C4A4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7AF-ACA7-4918-9BF0-E184797C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D28-DCB6-4A7D-A21C-FDF0911C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6591-99DF-4AB2-9D95-3C1F6AF9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3922-ED03-4EC8-8E82-333BA7A3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610C-43CE-4CDB-934C-1DF069BE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46F0-03D0-4FE3-8575-BBA9FD0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932-8332-4B7D-A58A-8256A70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C7D-FFB0-4C0F-B7EA-5798E85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993-5F40-4A88-BE11-720C718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7DB-5D7D-4E57-9E2E-E24421E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38D7-B15F-4A25-BFD9-AEF8B6B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47DE-B740-453E-9303-BC88F1BA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33B1-C471-48FA-A0D8-5931CF3D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38E-2543-444B-B48A-D2147472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9D9D-9526-4D22-9BE4-6D7E4BBA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A3C-20EC-4141-8CBA-C3C8BC97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355-A7A5-4B6C-91B5-8AC15C33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A37-5E13-4140-B9D6-3B9A699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89A-2D5F-44CC-9774-26F8916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D83-7605-4FE7-ACD7-EAB1A7D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2C6-2418-463C-B1FE-AB560CD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9D5-64E0-46DC-8FC5-821A8E1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B81-EB3D-4B58-9858-E570C990CD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4D8-4DE2-4E55-B6E4-F69202087B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us.org/files/images/russia-fla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5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295280" y="2286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943200" cy="942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5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8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8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8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4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1219320"/>
            <a:ext cx="4191120" cy="31953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362320" y="1371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wind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0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1430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 rot="19654800">
            <a:off x="1415880" y="27399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Box 7"/>
          <p:cNvSpPr/>
          <p:nvPr/>
        </p:nvSpPr>
        <p:spPr>
          <a:xfrm rot="19483800">
            <a:off x="1402560" y="273996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8"/>
          <p:cNvSpPr/>
          <p:nvPr/>
        </p:nvSpPr>
        <p:spPr>
          <a:xfrm rot="19345200">
            <a:off x="3105000" y="27795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285 -0.09606 C 0.06649 -0.16759 0.07517 -0.23333 0.08264 -0.30393 C 0.08715 -0.34583 0.08889 -0.38773 0.09462 -0.42939 C 0.09722 -0.47523 0.09809 -0.5206 0.09931 -0.56666 C 0.09965 -0.57685 0.09983 -0.58703 0.10069 -0.59699 C 0.10139 -0.60439 0.09826 -0.61782 0.10382 -0.61921 C 0.13559 -0.62754 0.1684 -0.62175 0.20069 -0.62314 C 0.20781 -0.628 0.21111 -0.63449 0.21736 -0.64143 C 0.2184 -0.6456 0.2217 -0.64907 0.22205 -0.65347 C 0.22847 -0.75115 0.21944 -0.6905 0.225 -0.72615 C 0.22552 -0.73842 0.22622 -0.75046 0.22656 -0.76273 C 0.22917 -0.84745 0.23941 -0.83125 0.17656 -0.83125 E">
                                      <p:cBhvr>
                                        <p:cTn id="551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pital: Moscow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rgest City: Moscow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ea: 17, 075, 400 sq k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fficial Languages: Russia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vernment: Semi-presidential Federal Republ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ident – Vladimir Puti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ime Minister - Mikhail Fradkov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pulation: 142, 400, 000 (2006 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push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6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380880" y="304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None we did this for fre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1981080" y="20574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20T15:45:57Z</dcterms:modified>
  <cp:revision>26</cp:revision>
  <dc:subject/>
  <dc:title>Present Day Russia</dc:title>
</cp:coreProperties>
</file>